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7.png" ContentType="image/png"/>
  <Override PartName="/ppt/media/image33.jpeg" ContentType="image/jpeg"/>
  <Override PartName="/ppt/media/image24.wmf" ContentType="image/x-wmf"/>
  <Override PartName="/ppt/media/image21.jpeg" ContentType="image/jpeg"/>
  <Override PartName="/ppt/media/image19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3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46.jpeg" ContentType="image/jpeg"/>
  <Override PartName="/ppt/media/image54.png" ContentType="image/png"/>
  <Override PartName="/ppt/media/image34.jpeg" ContentType="image/jpeg"/>
  <Override PartName="/ppt/media/image7.jpeg" ContentType="image/jpeg"/>
  <Override PartName="/ppt/media/image47.jpeg" ContentType="image/jpeg"/>
  <Override PartName="/ppt/media/image48.jpeg" ContentType="image/jpeg"/>
  <Override PartName="/ppt/media/image55.png" ContentType="image/png"/>
  <Override PartName="/ppt/media/image45.jpeg" ContentType="image/jpeg"/>
  <Override PartName="/ppt/media/image12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jpeg" ContentType="image/jpeg"/>
  <Override PartName="/ppt/media/image56.png" ContentType="image/png"/>
  <Override PartName="/ppt/media/image58.png" ContentType="image/png"/>
  <Override PartName="/ppt/media/image41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36.jpeg" ContentType="image/jpeg"/>
  <Override PartName="/ppt/media/image5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066-CB5A-4319-A3B3-B481676F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082-796D-4C41-9CAA-528AD15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FC4-06C3-4A4B-94B4-BA2EB7F2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285-67E9-499C-890D-37EE3F9D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88B-4B6C-4772-8908-1A60CAC0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7E0-810A-4AAA-8D48-7C48F142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B3D-1D05-4297-81A2-CC3AD49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B69-3C69-499A-B11A-CA031E4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CEE-BBC8-48FD-BD01-63A0FE4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AFB-D721-48FD-BB25-7162FEB2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6E5-CA20-4D0A-93EA-6021469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A8B-35EB-4A1B-8A4D-409D34E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B7B-1685-488C-A823-50392DE6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0" descr=""/>
          <p:cNvPicPr/>
          <p:nvPr/>
        </p:nvPicPr>
        <p:blipFill>
          <a:blip r:embed="rId2"/>
          <a:stretch/>
        </p:blipFill>
        <p:spPr>
          <a:xfrm>
            <a:off x="201600" y="212760"/>
            <a:ext cx="8551800" cy="145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2895480" y="1523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y: Allison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MP9004224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33560" y="3049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deserts are very ro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s get very cool at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s can be covered by a flat layer of sal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934320" y="18288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MP900180507[1]"/>
          <p:cNvPicPr/>
          <p:nvPr/>
        </p:nvPicPr>
        <p:blipFill>
          <a:blip r:embed="rId2"/>
          <a:stretch/>
        </p:blipFill>
        <p:spPr>
          <a:xfrm>
            <a:off x="1143000" y="2743200"/>
            <a:ext cx="1760400" cy="191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P900432775[1]"/>
          <p:cNvPicPr/>
          <p:nvPr/>
        </p:nvPicPr>
        <p:blipFill>
          <a:blip r:embed="rId3"/>
          <a:stretch/>
        </p:blipFill>
        <p:spPr>
          <a:xfrm>
            <a:off x="5638680" y="4724280"/>
            <a:ext cx="2743200" cy="18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MP900313902[1]"/>
          <p:cNvPicPr/>
          <p:nvPr/>
        </p:nvPicPr>
        <p:blipFill>
          <a:blip r:embed="rId4"/>
          <a:stretch/>
        </p:blipFill>
        <p:spPr>
          <a:xfrm rot="21255000">
            <a:off x="3739680" y="1859040"/>
            <a:ext cx="2210040" cy="1760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MC900433910[1]"/>
          <p:cNvPicPr/>
          <p:nvPr/>
        </p:nvPicPr>
        <p:blipFill>
          <a:blip r:embed="rId5"/>
          <a:stretch/>
        </p:blipFill>
        <p:spPr>
          <a:xfrm>
            <a:off x="2590920" y="472428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518148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20574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490920" y="5869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Bee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58280" y="6175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1" descr=""/>
          <p:cNvPicPr/>
          <p:nvPr/>
        </p:nvPicPr>
        <p:blipFill>
          <a:blip r:embed="rId6"/>
          <a:stretch/>
        </p:blipFill>
        <p:spPr>
          <a:xfrm>
            <a:off x="0" y="0"/>
            <a:ext cx="3444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ndra is a a very cold bi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dra is usually in the most northern areas of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ents, rabbits, caribou, weasel, owls, polar bears and foxes live in the tun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Rectangle 1" descr=""/>
          <p:cNvPicPr/>
          <p:nvPr/>
        </p:nvPicPr>
        <p:blipFill>
          <a:blip r:embed="rId2"/>
          <a:stretch/>
        </p:blipFill>
        <p:spPr>
          <a:xfrm>
            <a:off x="493560" y="311040"/>
            <a:ext cx="2762280" cy="128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 rot="259800">
            <a:off x="45720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2162160" y="61736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 rot="242400">
            <a:off x="6656040" y="463356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tretch/>
        </p:blipFill>
        <p:spPr>
          <a:xfrm rot="21152400">
            <a:off x="4190760" y="304776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6"/>
          <a:stretch/>
        </p:blipFill>
        <p:spPr>
          <a:xfrm rot="21406800">
            <a:off x="490680" y="2673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543040" y="4019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5381640" y="4816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781680" y="6251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6635880" y="457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ANd9GcTTXTMQVLtdJSK6u5zKn7o_fucCZiSX1ZHYIu8-ajqwZG2uJacX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Poor Richard"/>
              </a:rPr>
              <a:t>Coral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Home of many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Grow  in the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Sharks, crabs , algae, and anomies plant live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1009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3357720" y="2714760"/>
            <a:ext cx="24285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3357720" y="2714760"/>
            <a:ext cx="24285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41911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7620120" y="5486400"/>
            <a:ext cx="1218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0"/>
          <p:cNvGrpSpPr/>
          <p:nvPr/>
        </p:nvGrpSpPr>
        <p:grpSpPr>
          <a:xfrm>
            <a:off x="304920" y="5029200"/>
            <a:ext cx="3657600" cy="1633320"/>
            <a:chOff x="304920" y="5029200"/>
            <a:chExt cx="3657600" cy="1633320"/>
          </a:xfrm>
        </p:grpSpPr>
        <p:pic>
          <p:nvPicPr>
            <p:cNvPr id="53" name="Picture 23" descr="ANd9GcScCKkx41K2ZfCL_Akifmps63wufvKsnQjisJhyYdmsbsIziNUg"/>
            <p:cNvPicPr/>
            <p:nvPr/>
          </p:nvPicPr>
          <p:blipFill>
            <a:blip r:embed="rId2"/>
            <a:stretch/>
          </p:blipFill>
          <p:spPr>
            <a:xfrm>
              <a:off x="304920" y="502920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24"/>
            <p:cNvSpPr/>
            <p:nvPr/>
          </p:nvSpPr>
          <p:spPr>
            <a:xfrm>
              <a:off x="2514600" y="6019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oor Richard"/>
                </a:rPr>
                <a:t>Shar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9"/>
          <p:cNvGrpSpPr/>
          <p:nvPr/>
        </p:nvGrpSpPr>
        <p:grpSpPr>
          <a:xfrm>
            <a:off x="3535200" y="3754440"/>
            <a:ext cx="2289600" cy="2133720"/>
            <a:chOff x="3535200" y="3754440"/>
            <a:chExt cx="2289600" cy="2133720"/>
          </a:xfrm>
        </p:grpSpPr>
        <p:pic>
          <p:nvPicPr>
            <p:cNvPr id="56" name="Picture 26" descr="ANd9GcRPgxjRCc6Nx3xPWQIzsqg-VKMcjK8qrBVpMwUqMnw79t6du26iZQ"/>
            <p:cNvPicPr/>
            <p:nvPr/>
          </p:nvPicPr>
          <p:blipFill>
            <a:blip r:embed="rId3"/>
            <a:stretch/>
          </p:blipFill>
          <p:spPr>
            <a:xfrm>
              <a:off x="3535200" y="3754440"/>
              <a:ext cx="20574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8"/>
            <p:cNvSpPr/>
            <p:nvPr/>
          </p:nvSpPr>
          <p:spPr>
            <a:xfrm>
              <a:off x="5061960" y="54309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g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47"/>
          <p:cNvSpPr/>
          <p:nvPr/>
        </p:nvSpPr>
        <p:spPr>
          <a:xfrm>
            <a:off x="63086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9"/>
          <p:cNvGrpSpPr/>
          <p:nvPr/>
        </p:nvGrpSpPr>
        <p:grpSpPr>
          <a:xfrm>
            <a:off x="6019920" y="3029040"/>
            <a:ext cx="2466720" cy="1847880"/>
            <a:chOff x="6019920" y="3029040"/>
            <a:chExt cx="2466720" cy="1847880"/>
          </a:xfrm>
        </p:grpSpPr>
        <p:pic>
          <p:nvPicPr>
            <p:cNvPr id="60" name="Picture 52" descr="ANd9GcRM22vxtNsNCHm9YFSx1hPIpKE0VXQB-eCSZDOCA0mnVRU3weRD"/>
            <p:cNvPicPr/>
            <p:nvPr/>
          </p:nvPicPr>
          <p:blipFill>
            <a:blip r:embed="rId4"/>
            <a:stretch/>
          </p:blipFill>
          <p:spPr>
            <a:xfrm>
              <a:off x="6019920" y="302904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4"/>
            <p:cNvSpPr/>
            <p:nvPr/>
          </p:nvSpPr>
          <p:spPr>
            <a:xfrm>
              <a:off x="6338880" y="389736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omies 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60"/>
          <p:cNvGrpSpPr/>
          <p:nvPr/>
        </p:nvGrpSpPr>
        <p:grpSpPr>
          <a:xfrm>
            <a:off x="5187960" y="398520"/>
            <a:ext cx="2657880" cy="1923840"/>
            <a:chOff x="5187960" y="398520"/>
            <a:chExt cx="2657880" cy="1923840"/>
          </a:xfrm>
        </p:grpSpPr>
        <p:pic>
          <p:nvPicPr>
            <p:cNvPr id="63" name="Picture 56" descr="ANd9GcSAEUfazjAELk8QruTOhNwd3rseF0-PRQVpL8OBhQkU0xKBTn1mHg"/>
            <p:cNvPicPr/>
            <p:nvPr/>
          </p:nvPicPr>
          <p:blipFill>
            <a:blip r:embed="rId5"/>
            <a:stretch/>
          </p:blipFill>
          <p:spPr>
            <a:xfrm>
              <a:off x="5187960" y="398520"/>
              <a:ext cx="238104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58"/>
            <p:cNvSpPr/>
            <p:nvPr/>
          </p:nvSpPr>
          <p:spPr>
            <a:xfrm>
              <a:off x="7171200" y="19220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3" descr="ANd9GcQxvyaqS246Xa8B-TsVNhLT46R5FN7Uqeiroxqg-9qttW89xgzW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are humid and sh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have dirt, trees, and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are warm al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934320" y="4840200"/>
            <a:ext cx="2209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3228840" y="2576520"/>
            <a:ext cx="26863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3529080" y="2333520"/>
            <a:ext cx="20858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57200" y="35733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685800" y="2971800"/>
            <a:ext cx="3429000" cy="1905120"/>
            <a:chOff x="685800" y="2971800"/>
            <a:chExt cx="3429000" cy="1905120"/>
          </a:xfrm>
        </p:grpSpPr>
        <p:pic>
          <p:nvPicPr>
            <p:cNvPr id="74" name="Picture 12" descr="815585406_AeF4P-M_thumb"/>
            <p:cNvPicPr/>
            <p:nvPr/>
          </p:nvPicPr>
          <p:blipFill>
            <a:blip r:embed="rId2"/>
            <a:stretch/>
          </p:blipFill>
          <p:spPr>
            <a:xfrm>
              <a:off x="685800" y="2971800"/>
              <a:ext cx="2286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4"/>
            <p:cNvSpPr/>
            <p:nvPr/>
          </p:nvSpPr>
          <p:spPr>
            <a:xfrm>
              <a:off x="1905120" y="44197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Red Wood tre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4572000" y="2666880"/>
            <a:ext cx="3123720" cy="1828800"/>
            <a:chOff x="4572000" y="2666880"/>
            <a:chExt cx="3123720" cy="1828800"/>
          </a:xfrm>
        </p:grpSpPr>
        <p:pic>
          <p:nvPicPr>
            <p:cNvPr id="77" name="Picture 8" descr="ANd9GcTDKAaxELqt3Dv6RzMg4enT2In8SckbXRPLAvG4UnVYhI1bV2BM"/>
            <p:cNvPicPr/>
            <p:nvPr/>
          </p:nvPicPr>
          <p:blipFill>
            <a:blip r:embed="rId3"/>
            <a:stretch/>
          </p:blipFill>
          <p:spPr>
            <a:xfrm>
              <a:off x="4572000" y="266688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6"/>
            <p:cNvSpPr/>
            <p:nvPr/>
          </p:nvSpPr>
          <p:spPr>
            <a:xfrm>
              <a:off x="6553080" y="411444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et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276720" y="4800600"/>
            <a:ext cx="3276000" cy="1857240"/>
            <a:chOff x="3276720" y="4800600"/>
            <a:chExt cx="3276000" cy="1857240"/>
          </a:xfrm>
        </p:grpSpPr>
        <p:pic>
          <p:nvPicPr>
            <p:cNvPr id="80" name="Picture 22" descr="capuchin-monkeys_101_600x450"/>
            <p:cNvPicPr/>
            <p:nvPr/>
          </p:nvPicPr>
          <p:blipFill>
            <a:blip r:embed="rId4"/>
            <a:stretch/>
          </p:blipFill>
          <p:spPr>
            <a:xfrm>
              <a:off x="3276720" y="4800600"/>
              <a:ext cx="26668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8"/>
            <p:cNvSpPr/>
            <p:nvPr/>
          </p:nvSpPr>
          <p:spPr>
            <a:xfrm>
              <a:off x="5486400" y="62485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n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5486400" y="152280"/>
            <a:ext cx="3124080" cy="1828800"/>
            <a:chOff x="5486400" y="152280"/>
            <a:chExt cx="3124080" cy="1828800"/>
          </a:xfrm>
        </p:grpSpPr>
        <p:pic>
          <p:nvPicPr>
            <p:cNvPr id="83" name="Picture 6" descr="ANd9GcTqTHpID-lQp_vNq7WgPgXss0_4soNGt_V6P44SzOadcn6ZHpBGxA"/>
            <p:cNvPicPr/>
            <p:nvPr/>
          </p:nvPicPr>
          <p:blipFill>
            <a:blip r:embed="rId5"/>
            <a:stretch/>
          </p:blipFill>
          <p:spPr>
            <a:xfrm>
              <a:off x="5486400" y="15228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0"/>
            <p:cNvSpPr/>
            <p:nvPr/>
          </p:nvSpPr>
          <p:spPr>
            <a:xfrm>
              <a:off x="7620120" y="159984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Rectangle 22" descr=""/>
          <p:cNvPicPr/>
          <p:nvPr/>
        </p:nvPicPr>
        <p:blipFill>
          <a:blip r:embed="rId6"/>
          <a:stretch/>
        </p:blipFill>
        <p:spPr>
          <a:xfrm>
            <a:off x="1090440" y="182520"/>
            <a:ext cx="30909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C900437864[1]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lands are flooded at least part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igators, fish, deer, and snakes live in the wet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important wetlands are parts of estu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781680" y="510552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380880" y="2666880"/>
            <a:ext cx="2210040" cy="1324080"/>
            <a:chOff x="380880" y="2666880"/>
            <a:chExt cx="2210040" cy="1324080"/>
          </a:xfrm>
        </p:grpSpPr>
        <p:pic>
          <p:nvPicPr>
            <p:cNvPr id="90" name="Picture 8" descr="MP900262568[1]"/>
            <p:cNvPicPr/>
            <p:nvPr/>
          </p:nvPicPr>
          <p:blipFill>
            <a:blip r:embed="rId2"/>
            <a:stretch/>
          </p:blipFill>
          <p:spPr>
            <a:xfrm>
              <a:off x="380880" y="2666880"/>
              <a:ext cx="1981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0"/>
            <p:cNvSpPr/>
            <p:nvPr/>
          </p:nvSpPr>
          <p:spPr>
            <a:xfrm>
              <a:off x="1828800" y="3581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3"/>
          <p:cNvGrpSpPr/>
          <p:nvPr/>
        </p:nvGrpSpPr>
        <p:grpSpPr>
          <a:xfrm>
            <a:off x="2514600" y="4267080"/>
            <a:ext cx="2590560" cy="1920960"/>
            <a:chOff x="2514600" y="4267080"/>
            <a:chExt cx="2590560" cy="1920960"/>
          </a:xfrm>
        </p:grpSpPr>
        <p:pic>
          <p:nvPicPr>
            <p:cNvPr id="93" name="Picture 9" descr="MP900441104[1]"/>
            <p:cNvPicPr/>
            <p:nvPr/>
          </p:nvPicPr>
          <p:blipFill>
            <a:blip r:embed="rId3"/>
            <a:stretch/>
          </p:blipFill>
          <p:spPr>
            <a:xfrm>
              <a:off x="2514600" y="4267080"/>
              <a:ext cx="22860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2"/>
            <p:cNvSpPr/>
            <p:nvPr/>
          </p:nvSpPr>
          <p:spPr>
            <a:xfrm>
              <a:off x="4267080" y="57909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5486400" y="2590920"/>
            <a:ext cx="3124080" cy="1846440"/>
            <a:chOff x="5486400" y="2590920"/>
            <a:chExt cx="3124080" cy="1846440"/>
          </a:xfrm>
        </p:grpSpPr>
        <p:pic>
          <p:nvPicPr>
            <p:cNvPr id="96" name="Picture 7" descr="MP900405036[1]"/>
            <p:cNvPicPr/>
            <p:nvPr/>
          </p:nvPicPr>
          <p:blipFill>
            <a:blip r:embed="rId4"/>
            <a:stretch/>
          </p:blipFill>
          <p:spPr>
            <a:xfrm>
              <a:off x="5486400" y="2590920"/>
              <a:ext cx="2732040" cy="18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4"/>
            <p:cNvSpPr/>
            <p:nvPr/>
          </p:nvSpPr>
          <p:spPr>
            <a:xfrm>
              <a:off x="7924680" y="4038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6024600" y="333720"/>
            <a:ext cx="2700720" cy="1843920"/>
            <a:chOff x="6024600" y="333720"/>
            <a:chExt cx="2700720" cy="1843920"/>
          </a:xfrm>
        </p:grpSpPr>
        <p:pic>
          <p:nvPicPr>
            <p:cNvPr id="99" name="Picture 6" descr="MC900359833[1]"/>
            <p:cNvPicPr/>
            <p:nvPr/>
          </p:nvPicPr>
          <p:blipFill>
            <a:blip r:embed="rId5"/>
            <a:stretch/>
          </p:blipFill>
          <p:spPr>
            <a:xfrm rot="328800">
              <a:off x="6096600" y="442800"/>
              <a:ext cx="236232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6"/>
            <p:cNvSpPr/>
            <p:nvPr/>
          </p:nvSpPr>
          <p:spPr>
            <a:xfrm rot="328800">
              <a:off x="7567200" y="1670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tangle 17" descr=""/>
          <p:cNvPicPr/>
          <p:nvPr/>
        </p:nvPicPr>
        <p:blipFill>
          <a:blip r:embed="rId6"/>
          <a:stretch/>
        </p:blipFill>
        <p:spPr>
          <a:xfrm>
            <a:off x="858960" y="396720"/>
            <a:ext cx="30178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" descr="MC900437860[1]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4114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might grow in a cooler place that don’t have much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cover large parts of the eastern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have trees such as oaks, elms, and ma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57800" y="541008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ern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P900442470[1]"/>
          <p:cNvPicPr/>
          <p:nvPr/>
        </p:nvPicPr>
        <p:blipFill>
          <a:blip r:embed="rId2"/>
          <a:stretch/>
        </p:blipFill>
        <p:spPr>
          <a:xfrm rot="235200">
            <a:off x="304920" y="434304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2666880" y="571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3873600" y="2610720"/>
            <a:ext cx="2736000" cy="1909440"/>
            <a:chOff x="3873600" y="2610720"/>
            <a:chExt cx="2736000" cy="1909440"/>
          </a:xfrm>
        </p:grpSpPr>
        <p:pic>
          <p:nvPicPr>
            <p:cNvPr id="109" name="Picture 7" descr="MP900439270[1]"/>
            <p:cNvPicPr/>
            <p:nvPr/>
          </p:nvPicPr>
          <p:blipFill>
            <a:blip r:embed="rId3"/>
            <a:stretch/>
          </p:blipFill>
          <p:spPr>
            <a:xfrm rot="21182400">
              <a:off x="3962880" y="2752200"/>
              <a:ext cx="243828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0"/>
            <p:cNvSpPr/>
            <p:nvPr/>
          </p:nvSpPr>
          <p:spPr>
            <a:xfrm rot="21182400">
              <a:off x="5448600" y="364320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5"/>
          <p:cNvGrpSpPr/>
          <p:nvPr/>
        </p:nvGrpSpPr>
        <p:grpSpPr>
          <a:xfrm>
            <a:off x="551880" y="2319120"/>
            <a:ext cx="2930760" cy="1711800"/>
            <a:chOff x="551880" y="2319120"/>
            <a:chExt cx="2930760" cy="1711800"/>
          </a:xfrm>
        </p:grpSpPr>
        <p:pic>
          <p:nvPicPr>
            <p:cNvPr id="112" name="Picture 6" descr="MM900040931[1]"/>
            <p:cNvPicPr/>
            <p:nvPr/>
          </p:nvPicPr>
          <p:blipFill>
            <a:blip r:embed="rId4"/>
            <a:stretch/>
          </p:blipFill>
          <p:spPr>
            <a:xfrm rot="21325800">
              <a:off x="610560" y="239544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/>
            <p:cNvSpPr/>
            <p:nvPr/>
          </p:nvSpPr>
          <p:spPr>
            <a:xfrm rot="21325800">
              <a:off x="1946520" y="3451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6629400" y="3733920"/>
            <a:ext cx="2514600" cy="1630080"/>
            <a:chOff x="6629400" y="3733920"/>
            <a:chExt cx="2514600" cy="1630080"/>
          </a:xfrm>
        </p:grpSpPr>
        <p:pic>
          <p:nvPicPr>
            <p:cNvPr id="115" name="Picture 8" descr="MC900232241[1]"/>
            <p:cNvPicPr/>
            <p:nvPr/>
          </p:nvPicPr>
          <p:blipFill>
            <a:blip r:embed="rId5"/>
            <a:stretch/>
          </p:blipFill>
          <p:spPr>
            <a:xfrm>
              <a:off x="6629400" y="3733920"/>
              <a:ext cx="1565280" cy="16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2"/>
            <p:cNvSpPr/>
            <p:nvPr/>
          </p:nvSpPr>
          <p:spPr>
            <a:xfrm>
              <a:off x="76201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6bcf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WordArt 17"/>
          <p:cNvSpPr txBox="1"/>
          <p:nvPr/>
        </p:nvSpPr>
        <p:spPr>
          <a:xfrm>
            <a:off x="304920" y="152280"/>
            <a:ext cx="4352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ciduous For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kes, bullheads, bass, crayfish, otters, ducks, turtles, and insects live in the ri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nimals live in rivers that only flow slow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ew animals live in rivers that are badly pollu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172200" y="52531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MP910221068[1]"/>
          <p:cNvPicPr/>
          <p:nvPr/>
        </p:nvPicPr>
        <p:blipFill>
          <a:blip r:embed="rId2"/>
          <a:stretch/>
        </p:blipFill>
        <p:spPr>
          <a:xfrm rot="21228600">
            <a:off x="3581280" y="3414240"/>
            <a:ext cx="2286000" cy="157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438046[1]"/>
          <p:cNvPicPr/>
          <p:nvPr/>
        </p:nvPicPr>
        <p:blipFill>
          <a:blip r:embed="rId3"/>
          <a:stretch/>
        </p:blipFill>
        <p:spPr>
          <a:xfrm>
            <a:off x="5943600" y="220968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9"/>
          <p:cNvGrpSpPr/>
          <p:nvPr/>
        </p:nvGrpSpPr>
        <p:grpSpPr>
          <a:xfrm>
            <a:off x="293760" y="4304520"/>
            <a:ext cx="3363120" cy="1982160"/>
            <a:chOff x="293760" y="4304520"/>
            <a:chExt cx="3363120" cy="1982160"/>
          </a:xfrm>
        </p:grpSpPr>
        <p:pic>
          <p:nvPicPr>
            <p:cNvPr id="124" name="Picture 7" descr="MC900084010[1]"/>
            <p:cNvPicPr/>
            <p:nvPr/>
          </p:nvPicPr>
          <p:blipFill>
            <a:blip r:embed="rId4"/>
            <a:stretch/>
          </p:blipFill>
          <p:spPr>
            <a:xfrm rot="21200400">
              <a:off x="382680" y="4451760"/>
              <a:ext cx="264168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2"/>
            <p:cNvSpPr/>
            <p:nvPr/>
          </p:nvSpPr>
          <p:spPr>
            <a:xfrm rot="21200400">
              <a:off x="2800080" y="5497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1130040" y="2823840"/>
            <a:ext cx="1890000" cy="1405800"/>
            <a:chOff x="1130040" y="2823840"/>
            <a:chExt cx="1890000" cy="1405800"/>
          </a:xfrm>
        </p:grpSpPr>
        <p:pic>
          <p:nvPicPr>
            <p:cNvPr id="127" name="Picture 8" descr="MC900264298[1]"/>
            <p:cNvPicPr/>
            <p:nvPr/>
          </p:nvPicPr>
          <p:blipFill>
            <a:blip r:embed="rId5"/>
            <a:stretch/>
          </p:blipFill>
          <p:spPr>
            <a:xfrm rot="592200">
              <a:off x="1223280" y="2925720"/>
              <a:ext cx="1295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/>
            <p:cNvSpPr/>
            <p:nvPr/>
          </p:nvSpPr>
          <p:spPr>
            <a:xfrm rot="592200">
              <a:off x="1929240" y="3718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47242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7057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5" descr=""/>
          <p:cNvPicPr/>
          <p:nvPr/>
        </p:nvPicPr>
        <p:blipFill>
          <a:blip r:embed="rId6"/>
          <a:stretch/>
        </p:blipFill>
        <p:spPr>
          <a:xfrm>
            <a:off x="566640" y="152280"/>
            <a:ext cx="3414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MC900441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vered with many kinds of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es don’t grow well in gras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on, antelopes, and prairie dogs eat grass in these 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762120" y="38088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Grassl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553080" y="5335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P900262872[1]"/>
          <p:cNvPicPr/>
          <p:nvPr/>
        </p:nvPicPr>
        <p:blipFill>
          <a:blip r:embed="rId4"/>
          <a:stretch/>
        </p:blipFill>
        <p:spPr>
          <a:xfrm>
            <a:off x="4495680" y="5029200"/>
            <a:ext cx="2210040" cy="14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P900262623[1]"/>
          <p:cNvPicPr/>
          <p:nvPr/>
        </p:nvPicPr>
        <p:blipFill>
          <a:blip r:embed="rId5"/>
          <a:stretch/>
        </p:blipFill>
        <p:spPr>
          <a:xfrm>
            <a:off x="762120" y="4419720"/>
            <a:ext cx="136368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624852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1828800" y="2819520"/>
            <a:ext cx="3048120" cy="1465200"/>
            <a:chOff x="1828800" y="2819520"/>
            <a:chExt cx="3048120" cy="1465200"/>
          </a:xfrm>
        </p:grpSpPr>
        <p:pic>
          <p:nvPicPr>
            <p:cNvPr id="140" name="Picture 7" descr="MP900178697[1]"/>
            <p:cNvPicPr/>
            <p:nvPr/>
          </p:nvPicPr>
          <p:blipFill>
            <a:blip r:embed="rId6"/>
            <a:stretch/>
          </p:blipFill>
          <p:spPr>
            <a:xfrm>
              <a:off x="1828800" y="2819520"/>
              <a:ext cx="22100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3657600" y="3809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1066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ri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5"/>
          <p:cNvGrpSpPr/>
          <p:nvPr/>
        </p:nvGrpSpPr>
        <p:grpSpPr>
          <a:xfrm>
            <a:off x="5867280" y="2895480"/>
            <a:ext cx="2819520" cy="1520640"/>
            <a:chOff x="5867280" y="2895480"/>
            <a:chExt cx="2819520" cy="1520640"/>
          </a:xfrm>
        </p:grpSpPr>
        <p:pic>
          <p:nvPicPr>
            <p:cNvPr id="144" name="Picture 10" descr="MP900262603[1]"/>
            <p:cNvPicPr/>
            <p:nvPr/>
          </p:nvPicPr>
          <p:blipFill>
            <a:blip r:embed="rId7"/>
            <a:stretch/>
          </p:blipFill>
          <p:spPr>
            <a:xfrm>
              <a:off x="5867280" y="2895480"/>
              <a:ext cx="228600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/>
            <p:cNvSpPr/>
            <p:nvPr/>
          </p:nvSpPr>
          <p:spPr>
            <a:xfrm>
              <a:off x="7924680" y="3962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MP90043915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ep sea has high water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light can not reach the deep depths so no plants can grow down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s, crabs, and tubeworms live next to the 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609480" y="304920"/>
            <a:ext cx="1981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ep Se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54864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apagos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MC900438053[1]"/>
          <p:cNvPicPr/>
          <p:nvPr/>
        </p:nvPicPr>
        <p:blipFill>
          <a:blip r:embed="rId2"/>
          <a:stretch/>
        </p:blipFill>
        <p:spPr>
          <a:xfrm>
            <a:off x="2286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ANd9GcTDwO3bHT_hgfaoSDMvWpD7CnEHE-7t2JCr4oG0X2tsftnLTsx5mA"/>
          <p:cNvPicPr/>
          <p:nvPr/>
        </p:nvPicPr>
        <p:blipFill>
          <a:blip r:embed="rId3"/>
          <a:stretch/>
        </p:blipFill>
        <p:spPr>
          <a:xfrm>
            <a:off x="5562720" y="3581280"/>
            <a:ext cx="259056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609480" y="3657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5334120" y="304920"/>
            <a:ext cx="2609640" cy="1752480"/>
            <a:chOff x="5334120" y="304920"/>
            <a:chExt cx="2609640" cy="1752480"/>
          </a:xfrm>
        </p:grpSpPr>
        <p:pic>
          <p:nvPicPr>
            <p:cNvPr id="154" name="Picture 13" descr="ANd9GcT4rQ3s-uLgeJVJEbykOkZARg27CL9qhn9L_Qlj45ybpN6bni8E"/>
            <p:cNvPicPr/>
            <p:nvPr/>
          </p:nvPicPr>
          <p:blipFill>
            <a:blip r:embed="rId4"/>
            <a:stretch/>
          </p:blipFill>
          <p:spPr>
            <a:xfrm>
              <a:off x="5334120" y="304920"/>
              <a:ext cx="26096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5"/>
            <p:cNvSpPr/>
            <p:nvPr/>
          </p:nvSpPr>
          <p:spPr>
            <a:xfrm>
              <a:off x="6019920" y="15238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iant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2590920" y="3733920"/>
            <a:ext cx="1904760" cy="1904760"/>
            <a:chOff x="2590920" y="3733920"/>
            <a:chExt cx="1904760" cy="1904760"/>
          </a:xfrm>
        </p:grpSpPr>
        <p:pic>
          <p:nvPicPr>
            <p:cNvPr id="157" name="Picture 9" descr="MC900438048[1]"/>
            <p:cNvPicPr/>
            <p:nvPr/>
          </p:nvPicPr>
          <p:blipFill>
            <a:blip r:embed="rId5"/>
            <a:stretch/>
          </p:blipFill>
          <p:spPr>
            <a:xfrm>
              <a:off x="2590920" y="373392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/>
            <p:cNvSpPr/>
            <p:nvPr/>
          </p:nvSpPr>
          <p:spPr>
            <a:xfrm>
              <a:off x="3200400" y="4191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7"/>
          <p:cNvSpPr/>
          <p:nvPr/>
        </p:nvSpPr>
        <p:spPr>
          <a:xfrm>
            <a:off x="106668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94360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e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MP9004372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71440" y="30492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es in the taiga have need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iga is a clod bio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edles of the trees have a wax co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685800" y="304920"/>
            <a:ext cx="19191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or Richard"/>
              </a:rPr>
              <a:t>Taig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315200" y="22860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P900442470[1]"/>
          <p:cNvPicPr/>
          <p:nvPr/>
        </p:nvPicPr>
        <p:blipFill>
          <a:blip r:embed="rId2"/>
          <a:stretch/>
        </p:blipFill>
        <p:spPr>
          <a:xfrm rot="222000">
            <a:off x="1203480" y="4249800"/>
            <a:ext cx="274320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MP900262831[1]"/>
          <p:cNvPicPr/>
          <p:nvPr/>
        </p:nvPicPr>
        <p:blipFill>
          <a:blip r:embed="rId3"/>
          <a:stretch/>
        </p:blipFill>
        <p:spPr>
          <a:xfrm>
            <a:off x="4572000" y="18288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MP900262871[1]"/>
          <p:cNvPicPr/>
          <p:nvPr/>
        </p:nvPicPr>
        <p:blipFill>
          <a:blip r:embed="rId4"/>
          <a:stretch/>
        </p:blipFill>
        <p:spPr>
          <a:xfrm rot="21343800">
            <a:off x="5638320" y="45720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MP900227773[1]"/>
          <p:cNvPicPr/>
          <p:nvPr/>
        </p:nvPicPr>
        <p:blipFill>
          <a:blip r:embed="rId5"/>
          <a:stretch/>
        </p:blipFill>
        <p:spPr>
          <a:xfrm rot="21310800">
            <a:off x="761760" y="1981080"/>
            <a:ext cx="205740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17524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1240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6294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705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7:47Z</dcterms:created>
  <dc:creator>AJ3311</dc:creator>
  <dc:description/>
  <dc:language>en-US</dc:language>
  <cp:lastModifiedBy>AJ3311</cp:lastModifiedBy>
  <dcterms:modified xsi:type="dcterms:W3CDTF">2012-11-13T19:17:24Z</dcterms:modified>
  <cp:revision>28</cp:revision>
  <dc:subject/>
  <dc:title>Water and Land Biomes</dc:title>
</cp:coreProperties>
</file>